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8E0-E2F4-4AED-9F02-D8D74427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164-B4A1-4AAA-9008-92EC4154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E20-BC80-47B4-90F4-59FA2CE9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B2F-6D06-47E3-B0EB-35C6D0D8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5AB-8833-40BC-A1AC-DEBE013B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821-5768-4414-80C5-000760C8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0F7-AA2F-44A3-9999-FBB047CA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778-84F1-40D5-AF39-18767662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E53-3F43-4922-9E32-44FA30A1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218-271B-48B6-8715-09D654B9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BA8-4F0B-4797-9828-E8486296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EE1-710B-425E-A7AA-FEEC4766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C573-D54D-47EA-8425-12023B482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7537749JoSuNr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71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800600"/>
            <a:ext cx="91440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أيها الملكُ السماوي المعزي روحُ الحق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الحاضرُ في كل مكان والماليءُ الكل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كنزُ الصالحاتِ ورازقُ الحياة هلم واسكن فينا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طهرنا من كلِّ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دنسٍ وخلص أيها الصالحُ نفوسَ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5:53:26Z</dcterms:created>
  <dc:creator>SUZANNE.MD</dc:creator>
  <dc:description/>
  <dc:language>en-US</dc:language>
  <cp:lastModifiedBy>USER</cp:lastModifiedBy>
  <dcterms:modified xsi:type="dcterms:W3CDTF">2003-02-07T13:06:47Z</dcterms:modified>
  <cp:revision>3</cp:revision>
  <dc:subject/>
  <dc:title>PowerPoint Presentation</dc:title>
</cp:coreProperties>
</file>